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61F-B688-4BCB-B4B4-968A80BC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5F7-4018-4FA3-8132-A7682352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1D7-D007-406E-8DF9-5BCCD817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E9D-B853-4D28-B2E0-C72C82E0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D04-1A7A-41D6-9A57-F6822B66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BC3-2006-4BA3-BBE1-F6B9494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CAB-7109-4A04-BCE4-85261853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6DB-248D-4DDB-B302-C0FED4C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34C-437F-4165-A2E4-67A1108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3CA-AF64-46F5-AF7C-63C45C0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889-90B3-4BBB-8866-8DF97BD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250-C98C-4E14-B782-1D0B15EC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533-81EA-4FE0-B472-F1241055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omogeneous" TargetMode="External"/><Relationship Id="rId2" Type="http://schemas.openxmlformats.org/officeDocument/2006/relationships/hyperlink" Target="http://en.wikipedia.org/wiki/Weighing_scale" TargetMode="External"/><Relationship Id="rId3" Type="http://schemas.openxmlformats.org/officeDocument/2006/relationships/hyperlink" Target="http://en.wikipedia.org/wiki/Hydrostatic_weighin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en.wikipedia.org/wiki/Matter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3152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Constantia"/>
              </a:rPr>
              <a:t>  </a:t>
            </a:r>
            <a:r>
              <a:rPr b="0" i="1" lang="en-US" sz="3200" spc="-1" strike="noStrike">
                <a:solidFill>
                  <a:srgbClr val="009999"/>
                </a:solidFill>
                <a:latin typeface="Constantia"/>
              </a:rPr>
              <a:t>These slides can be used as a starting point for a presentation.  Text can be modified for appropriate a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3720" y="228600"/>
            <a:ext cx="4419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33cccc"/>
                    </a:gs>
                    <a:gs pos="100000">
                      <a:srgbClr val="333399"/>
                    </a:gs>
                  </a:gsLst>
                  <a:lin ang="8100000"/>
                </a:gradFill>
                <a:latin typeface="Kristen ITC"/>
              </a:rPr>
              <a:t>Density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33cccc"/>
                  </a:gs>
                  <a:gs pos="100000">
                    <a:srgbClr val="333399"/>
                  </a:gs>
                </a:gsLst>
                <a:lin ang="8100000"/>
              </a:gradFill>
              <a:latin typeface="Kristen ITC"/>
              <a:ea typeface="Kristen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52280" y="1600200"/>
                <a:ext cx="381024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ns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4800" y="1754280"/>
            <a:ext cx="48006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mogen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ject, the mass divided by the volume gives the density. The mass is normally measured with an appropriat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ale or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e volume may be measured directly (from the geometry of the object) or by the displacement of a fluid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ydrostatic weig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method that combines thes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ody is not homogeneous or heterogeneous, the density is a function of the coordinat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lementary volume with coordinates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mass of the body then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 integration is over the volume of the bo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(Wikipedia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\rho(\vec{r})=dm/dv"/>
          <p:cNvPicPr/>
          <p:nvPr/>
        </p:nvPicPr>
        <p:blipFill>
          <a:blip r:embed="rId4"/>
          <a:stretch/>
        </p:blipFill>
        <p:spPr>
          <a:xfrm>
            <a:off x="5791320" y="4572000"/>
            <a:ext cx="1218960" cy="203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\vec{r}"/>
          <p:cNvPicPr/>
          <p:nvPr/>
        </p:nvPicPr>
        <p:blipFill>
          <a:blip r:embed="rId5"/>
          <a:stretch/>
        </p:blipFill>
        <p:spPr>
          <a:xfrm>
            <a:off x="7924680" y="4876920"/>
            <a:ext cx="11916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 m = \int_V \rho(\vec{r})dv"/>
          <p:cNvPicPr/>
          <p:nvPr/>
        </p:nvPicPr>
        <p:blipFill>
          <a:blip r:embed="rId6"/>
          <a:stretch/>
        </p:blipFill>
        <p:spPr>
          <a:xfrm>
            <a:off x="4572000" y="5410080"/>
            <a:ext cx="1143000" cy="33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m = \int_V \rho(\vec{r})dv"/>
          <p:cNvPicPr/>
          <p:nvPr/>
        </p:nvPicPr>
        <p:blipFill>
          <a:blip r:embed="rId7"/>
          <a:stretch/>
        </p:blipFill>
        <p:spPr>
          <a:xfrm>
            <a:off x="4419720" y="5364000"/>
            <a:ext cx="1447560" cy="4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57200" y="4191120"/>
            <a:ext cx="33526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2860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Elephant"/>
              </a:rPr>
              <a:t>MASS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Elephant"/>
              <a:ea typeface="Elephan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230720" cy="480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67080" y="4046400"/>
            <a:ext cx="472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SoeiKakupoptai"/>
              </a:rPr>
              <a:t>Amount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HGPSoeiKakupoptai"/>
                <a:hlinkClick r:id="rId3"/>
              </a:rPr>
              <a:t>ma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SoeiKakupoptai"/>
              </a:rPr>
              <a:t> in a chemical substance is determined in part by the number and type of atoms or molecules it contains, and in part by the energy involved in binding it together (Wikipedia 20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695920" y="717480"/>
            <a:ext cx="2457360" cy="231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880" y="304920"/>
            <a:ext cx="3962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cc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atin typeface="Harlow Solid Italic"/>
              </a:rPr>
              <a:t>Volume</a:t>
            </a:r>
            <a:endParaRPr b="1" lang="en-US" sz="1800" spc="1" strike="noStrike">
              <a:ln w="19080">
                <a:solidFill>
                  <a:srgbClr val="ff33cc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atin typeface="Harlow Solid Italic"/>
              <a:ea typeface="Harlow Solid Italic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47696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3201120"/>
            <a:ext cx="41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SoeiKakupoptai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SoeiKakupoptai"/>
              </a:rPr>
              <a:t>vol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SoeiKakupoptai"/>
              </a:rPr>
              <a:t> of any solid, liquid, plasma, vacuum or theoretical object is how much three-dimensional space it occupies, often quantified numerically. One-dimensional figures (such as lines) and two-dimensional shapes (such as squares) are assigned zero volume in the three-dimensional space. Volume is commonly presented in units such as mL or cm3 (milliliters or cubic centimeter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09480" y="3124080"/>
                <a:ext cx="32767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3:05:40Z</dcterms:created>
  <dc:creator>Honeywell</dc:creator>
  <dc:description/>
  <dc:language>en-US</dc:language>
  <cp:lastModifiedBy>azagoria</cp:lastModifiedBy>
  <dcterms:modified xsi:type="dcterms:W3CDTF">2009-05-13T14:32:27Z</dcterms:modified>
  <cp:revision>8</cp:revision>
  <dc:subject/>
  <dc:title>Slide 1</dc:title>
</cp:coreProperties>
</file>