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3F9A-0E8D-4CC5-8F99-EF4D45DC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64B8-2A85-42C6-96F1-CE9A22DC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5BD-BBEA-4D0B-AEF8-9C91B9FB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810-031E-4F6F-ADB7-29D27E7B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1748-AC2F-43C4-8E8C-968D0BB1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FF27-D31C-4CC2-9FA9-65B0B160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C7A2-A849-463A-A869-BE45DBEB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5DF3-9D5F-4938-8A11-30DE7A6E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D051-B96A-4914-904B-6EEC8CCE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12CB-2C54-4F51-B5FD-3A4E31B9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C612-C6A7-4E80-8DF9-96310745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C97-00D2-4C31-ACD3-30209194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EA82-6E4C-4D68-83AD-9A23A3F9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46CF-41E2-400B-9D45-ABEF5ABE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2803-A635-45DB-99BE-60DE3BF7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096D-8DE3-4863-A9B4-19910623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71A6-478F-498C-B3C6-8F3CBDC6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0D2B-089D-45B5-A514-5E3EB22A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8A2-6ACD-4EB2-B412-3FE3C120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4BC-DD90-43AB-BA5F-16CDA13C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647-30E9-4A57-97A6-D84B9487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CBB-3512-4EFD-8F89-1ADC5BCD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B88-B98E-4A93-A2C3-F4740939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CE87-BC97-4680-81B7-61EF5BA1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F6D8-7A17-47B7-8AFB-23340C77B7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0FA7-D608-4705-B376-DD0930887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Hazard Identification 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n the Plant Sit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48360" y="5589720"/>
            <a:ext cx="1729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any 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80000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FOLLOW-UP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tify your foreman or supervis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tify other work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rect signs or barri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tempt to correct the hazard if you can do so saf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form maintenance to arrange repai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y other ac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1413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zard identification should trigger some immediate ac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VOID THIS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1912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4000" y="764640"/>
            <a:ext cx="7993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azards are conditions that can directly cause harm to people and/or damage to equipment and the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azards may be natural or may be the result of some controlled or uncontrolled e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azards in the workplace may include chemicals, process equipment, operating conditions and physical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PHYSICAL HAZAR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1341360"/>
            <a:ext cx="822960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hysical hazards are visible and  tang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ws of physics preva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nsequences are a function of force (impact), point of contact, duration of cont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orkers gain familiarity with physical forces and hazards through childhood development and spor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51640" y="4724280"/>
            <a:ext cx="1622160" cy="1657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835280" y="4724280"/>
            <a:ext cx="16365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Working at Height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3856320" cy="3960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200" y="5734080"/>
            <a:ext cx="739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er could fall and sustain inju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Hoisting Equipmen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5975280" cy="42336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340000" y="5734080"/>
            <a:ext cx="47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ad could shift or f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Frayed Connection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15491" t="0" r="0" b="6102"/>
          <a:stretch/>
        </p:blipFill>
        <p:spPr>
          <a:xfrm>
            <a:off x="1476360" y="14842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PROCESS HAZAR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1197000"/>
            <a:ext cx="856908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ocess hazards are often invisible and less obvious than physical haz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nsequences are a function of the type of material, its properties and the process condi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ny workers have not been directly exposed to process hazar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0" r="0" b="14871"/>
          <a:stretch/>
        </p:blipFill>
        <p:spPr>
          <a:xfrm>
            <a:off x="6012000" y="4508640"/>
            <a:ext cx="1778040" cy="1871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87164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rcRect l="8599" t="0" r="5007" b="4137"/>
          <a:stretch/>
        </p:blipFill>
        <p:spPr>
          <a:xfrm>
            <a:off x="1476360" y="765000"/>
            <a:ext cx="6553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void complacenc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3905280" cy="3684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907280" y="55897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zards are all around 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7:35:47Z</dcterms:created>
  <dc:creator>Brian Kelly</dc:creator>
  <dc:description/>
  <dc:language>en-US</dc:language>
  <cp:lastModifiedBy>Brian Kelly</cp:lastModifiedBy>
  <dcterms:modified xsi:type="dcterms:W3CDTF">2007-12-16T01:08:22Z</dcterms:modified>
  <cp:revision>20</cp:revision>
  <dc:subject/>
  <dc:title>Slide 1</dc:title>
</cp:coreProperties>
</file>