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4.wmf" ContentType="image/x-wmf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Click to move the slide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A90-978B-4FAF-953B-F1F816FF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0B5-DB3E-4042-8EB9-0FEEC6255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6A1-3DE1-43C1-8F6A-8A17789A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DF-9F7D-4EE9-A89A-0166D26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860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9DA-3B91-4D7B-B27C-8CBBD672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444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13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444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13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FC7-601C-4790-9B77-73D3FA4C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2EB-0B16-458C-B55C-F6208451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480-2DCC-4FB3-BAC0-02936E8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2BB-CA2C-4E9A-9647-83EF7D3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2B1-9EDB-4C68-8AFA-E01F273B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6D7-A074-4F33-9DB8-7756CC8D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0E6-3A6E-4E6B-834A-E4A3B21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860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4E1-0763-4966-A1E1-258D0EE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C40-4EDE-43EA-89CF-C371A5D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Click to edit the title text format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BD8-1374-4F73-BCD5-E68A9FA93FCA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sha.gov/" TargetMode="External"/><Relationship Id="rId2" Type="http://schemas.openxmlformats.org/officeDocument/2006/relationships/hyperlink" Target="http://www.csb.gov/" TargetMode="External"/><Relationship Id="rId3" Type="http://schemas.openxmlformats.org/officeDocument/2006/relationships/hyperlink" Target="http://www.aiche.org/ccps" TargetMode="External"/><Relationship Id="rId4" Type="http://schemas.openxmlformats.org/officeDocument/2006/relationships/hyperlink" Target="http://ncsp.tamu.edu/" TargetMode="External"/><Relationship Id="rId5" Type="http://schemas.openxmlformats.org/officeDocument/2006/relationships/hyperlink" Target="http://www.nsc.org/" TargetMode="External"/><Relationship Id="rId6" Type="http://schemas.openxmlformats.org/officeDocument/2006/relationships/hyperlink" Target="http://www.nfpa.org/" TargetMode="External"/><Relationship Id="rId7" Type="http://schemas.openxmlformats.org/officeDocument/2006/relationships/hyperlink" Target="http://www.hse.gov.uk/" TargetMode="External"/><Relationship Id="rId8" Type="http://schemas.openxmlformats.org/officeDocument/2006/relationships/hyperlink" Target="http://www.asse.org/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An Introduction to Hazards Identification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CPS Tools to Enhance Hazard Identificati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668680" cy="192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2668680" cy="189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48520" y="1981080"/>
            <a:ext cx="2678040" cy="18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772080" y="55897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Insert Logo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Other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ther hazards may be present in the workplace or other locations, but can lead to serious injur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quences are a function of the type of hazard, exposure to the hazard, and the duration of the exposure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4162320"/>
            <a:ext cx="312444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241776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21302" t="11598" r="28802" b="23402"/>
          <a:stretch/>
        </p:blipFill>
        <p:spPr>
          <a:xfrm>
            <a:off x="609480" y="4175280"/>
            <a:ext cx="190512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6" name=""/>
          <p:cNvGrpSpPr/>
          <p:nvPr/>
        </p:nvGrpSpPr>
        <p:grpSpPr>
          <a:xfrm>
            <a:off x="838080" y="2590920"/>
            <a:ext cx="4267080" cy="609480"/>
            <a:chOff x="838080" y="2590920"/>
            <a:chExt cx="4267080" cy="609480"/>
          </a:xfrm>
        </p:grpSpPr>
        <p:sp>
          <p:nvSpPr>
            <p:cNvPr id="97" name=""/>
            <p:cNvSpPr/>
            <p:nvPr/>
          </p:nvSpPr>
          <p:spPr>
            <a:xfrm>
              <a:off x="838080" y="2590920"/>
              <a:ext cx="4267080" cy="609480"/>
            </a:xfrm>
            <a:prstGeom prst="rightArrow">
              <a:avLst>
                <a:gd name="adj1" fmla="val 50000"/>
                <a:gd name="adj2" fmla="val 1750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0400" y="2713320"/>
              <a:ext cx="32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ick for more 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C82-20B0-4151-B245-59EA23B9E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Avoid Complacency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75160" cy="265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1148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zards are all around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me hazards are hidden or are not obvio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 aware and alert, recognize hazards,                            and use good hazard identification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8DF-43FC-4CFF-AE68-2B2504451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dentifying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se your sen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sight, smell, hearing, etc.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 aware of your surroundings and/or work environ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dentify things that may cause har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ok for warning signs and label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e things that are different, unusual, unexpect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se hazard identification tool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s id lists and checklis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cess hazards analysis and risk assessment methodologi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28C-6C5D-420D-A755-3ABA9DE7EF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10280" y="5180040"/>
            <a:ext cx="1447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51800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1800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18004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180040"/>
            <a:ext cx="2209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BLE TO MO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591080"/>
            <a:ext cx="1447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59108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59108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59108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591080"/>
            <a:ext cx="22096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PAST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951360"/>
            <a:ext cx="1447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95136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95136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3951360"/>
            <a:ext cx="137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51360"/>
            <a:ext cx="2209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3363840"/>
            <a:ext cx="144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336384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336384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6384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363840"/>
            <a:ext cx="2209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2776680"/>
            <a:ext cx="1447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776680"/>
            <a:ext cx="1371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776680"/>
            <a:ext cx="1371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776680"/>
            <a:ext cx="1371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76680"/>
            <a:ext cx="2209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187720"/>
            <a:ext cx="1447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18772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18772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187720"/>
            <a:ext cx="1371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87720"/>
            <a:ext cx="22096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2480"/>
            <a:ext cx="1447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828800"/>
            <a:ext cx="1371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Z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752480"/>
            <a:ext cx="1371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752480"/>
            <a:ext cx="1371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752480"/>
            <a:ext cx="2209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877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7766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36384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95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5910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004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81976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0" cy="43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1752480"/>
            <a:ext cx="0" cy="40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1752480"/>
            <a:ext cx="0" cy="40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1752480"/>
            <a:ext cx="0" cy="40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752480"/>
            <a:ext cx="0" cy="40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1752480"/>
            <a:ext cx="0" cy="43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187720"/>
            <a:ext cx="0" cy="36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2187720"/>
            <a:ext cx="0" cy="36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Example of Hazard ID/Evaluation Metho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Managing Hazards by Evaluating Risk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 all hazards represent the same risk or possible harm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s are often ranked to help determine priorities for eliminating or reducing the hazard or to help ensure proper control of hazards is provid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 lower consequence, but more frequently-occurring events may represent greater risk than higher consequence, but lower frequency event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sk = (Consequences) x (Frequency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quences = the severity or harm associated with the haz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= the likelihood or probability that harm will occu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947-370D-4D24-9840-FEA0AF4D9A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Reducing Risk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ce the combination of both consequence severity and accident frequency impact risk, you can work on both or either to lower risk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2352600"/>
            <a:ext cx="3961800" cy="3352680"/>
            <a:chOff x="2819520" y="2352600"/>
            <a:chExt cx="3961800" cy="3352680"/>
          </a:xfrm>
        </p:grpSpPr>
        <p:sp>
          <p:nvSpPr>
            <p:cNvPr id="161" name=""/>
            <p:cNvSpPr/>
            <p:nvPr/>
          </p:nvSpPr>
          <p:spPr>
            <a:xfrm>
              <a:off x="2819520" y="4028760"/>
              <a:ext cx="990360" cy="838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9880" y="4028760"/>
              <a:ext cx="990360" cy="838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028760"/>
              <a:ext cx="99000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0960" y="4028760"/>
              <a:ext cx="990360" cy="838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19520" y="3190680"/>
              <a:ext cx="99036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3190680"/>
              <a:ext cx="990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0600" y="3190680"/>
              <a:ext cx="99000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0960" y="3190680"/>
              <a:ext cx="99036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4867200"/>
              <a:ext cx="99036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4867200"/>
              <a:ext cx="99036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4867200"/>
              <a:ext cx="9900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0960" y="4867200"/>
              <a:ext cx="990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2352600"/>
              <a:ext cx="99036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9880" y="2352600"/>
              <a:ext cx="99036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352600"/>
              <a:ext cx="99000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0960" y="2352600"/>
              <a:ext cx="99036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54760" y="601992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reasing Severity 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rot="16200000">
            <a:off x="486000" y="384696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reasing Frequency 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F22-47D9-4CA1-8CEA-5A092E9AA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When to Identify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 the time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pecially at the start of new projects or when changes are being made to existing facilit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96A-5D1D-40B0-BA1F-7E7C3034B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Who Should Identify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 of us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ditional training is often helpful to evaluate many types of hazards (e.g., process hazards, electrical, biological) and to apply many hazard identification tools correctl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6BF-5D8E-4316-97C0-9D7B7EF5BB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Managing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iminat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e haz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tro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the haz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gineering controls, machine guards, barriers, etc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tec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gainst the haz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cedures, training, personal protective equip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recognized in the workplac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ify your foreman or supervisor; Notify other work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rect signs or barri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mpt to correct the hazard if you can do so safel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form maintenance to arrange repai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ep track of accidents or potential accidents and communicate key learnings broadly to help others avoid similar problem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3B9-8639-4983-BB61-DDB5ECC07D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Hazard Management Program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workplace program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place safe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cess safety manage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iving safe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re safe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ples of important activiti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 identification and evalu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of procedur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in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ident investig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ventive maintenanc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aluation of chang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intain a sense of vulnerability and a strong safety culture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1F5-48ED-47EA-93FA-A151DCF3DC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Purpose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vide an introduction to hazards and hazards identification to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p improve your ability to detect hazards in the workplac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p prevent injuries and accident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lp raise awarenes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500-0B9E-42F2-AA21-7C897DDB2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For More Information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act your workplace safety coordinato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ult Material Safety Data Sheets (MSDS), vendor literature, equipment manuals, etc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HA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osha.gov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emical Safety Board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csb.gov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enter for Chemical Process Safety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aiche.org/ccp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ational Chemical Safety Program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ncsp.tamu.edu/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ational Safety Council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www.nsc.org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ational Fire Protection Association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www.nfpa.org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alth and Safety Executive (UK)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www.hse.gov.uk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merican Society of Safety Engineers (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www.asse.org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DF3-3361-4E44-A21D-0BF0F4A2E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What’s A Hazard?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s are conditions that can directly cause harm to people and/or damage to equipment and to the environmen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s may be natural or may be the result of some controlled or uncontrolled even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zards in the workplace may include chemicals, process equipment, operating conditions and physical activit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317-9B5C-435C-AAB8-D6D1F32621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Why Identify Hazards?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dentifying and managing hazards in our workplace helps us and our co-workers to work and go home safely every da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vent injuri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vent property damag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vent harm to the environ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rove business performance and reput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399-DC22-4929-9CCE-BEC8C6C02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Failure to Identify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24440" y="4495680"/>
            <a:ext cx="297180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4589640" cy="299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31431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452-EDEB-46FE-AA01-789B0F877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Failure to Identify/Manage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4114800"/>
            <a:ext cx="3419640" cy="2289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419640" cy="2289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52440" y="1523880"/>
            <a:ext cx="3052800" cy="228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57480" y="4114800"/>
            <a:ext cx="3043080" cy="2284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208-625D-4E9A-A1A9-8E223CB03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Types of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hysical Hazard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lips, trips, fall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pact, spe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otating or high energy equipme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arp or cutting edg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ocess Hazard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 press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re and explos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mical reactivi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mical exposure and toxicit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56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Other Hazard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m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ic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ologic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adi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ined space / asphyxia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is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373200" cy="2284560"/>
          </a:xfrm>
          <a:prstGeom prst="rect">
            <a:avLst/>
          </a:prstGeom>
          <a:ln w="0">
            <a:noFill/>
          </a:ln>
          <a:effectLst>
            <a:outerShdw dist="117181" dir="2961631" blurRad="0" rotWithShape="0">
              <a:srgbClr val="000000"/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846-B4AA-4D57-AEC9-2142BB5B6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4676760"/>
            <a:ext cx="172872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Physical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al hazards are visible and tangible… Laws of physics appl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quences are a function of force (impact), point of contact, duration of contac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14800" y="4638600"/>
            <a:ext cx="1866960" cy="182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26120" y="4246560"/>
            <a:ext cx="301788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133720" y="4684680"/>
            <a:ext cx="1838160" cy="17366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914400" y="2286000"/>
            <a:ext cx="4267080" cy="609480"/>
            <a:chOff x="914400" y="2286000"/>
            <a:chExt cx="4267080" cy="609480"/>
          </a:xfrm>
        </p:grpSpPr>
        <p:sp>
          <p:nvSpPr>
            <p:cNvPr id="81" name=""/>
            <p:cNvSpPr/>
            <p:nvPr/>
          </p:nvSpPr>
          <p:spPr>
            <a:xfrm>
              <a:off x="914400" y="2286000"/>
              <a:ext cx="4267080" cy="609480"/>
            </a:xfrm>
            <a:prstGeom prst="rightArrow">
              <a:avLst>
                <a:gd name="adj1" fmla="val 50000"/>
                <a:gd name="adj2" fmla="val 1750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36720" y="2408400"/>
              <a:ext cx="32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ick for more 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3AA-84CF-4196-944C-8A50D5EA8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Process Hazards</a:t>
            </a:r>
            <a:endParaRPr b="1" lang="en-US" sz="2800" spc="-1" strike="noStrike" u="sng">
              <a:solidFill>
                <a:srgbClr val="3333ff"/>
              </a:solidFill>
              <a:uFillTx/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cess hazards are often invisible and less obvious than physical hazard, but are often present in the workplac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quences are a function of the type of material, its properties and the process condition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705720" y="4130640"/>
            <a:ext cx="1819080" cy="272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05320" y="4176720"/>
            <a:ext cx="266688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514600" cy="24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8" name=""/>
          <p:cNvGrpSpPr/>
          <p:nvPr/>
        </p:nvGrpSpPr>
        <p:grpSpPr>
          <a:xfrm>
            <a:off x="914400" y="2590920"/>
            <a:ext cx="4267080" cy="609480"/>
            <a:chOff x="914400" y="2590920"/>
            <a:chExt cx="4267080" cy="609480"/>
          </a:xfrm>
        </p:grpSpPr>
        <p:sp>
          <p:nvSpPr>
            <p:cNvPr id="89" name=""/>
            <p:cNvSpPr/>
            <p:nvPr/>
          </p:nvSpPr>
          <p:spPr>
            <a:xfrm>
              <a:off x="914400" y="2590920"/>
              <a:ext cx="4267080" cy="609480"/>
            </a:xfrm>
            <a:prstGeom prst="rightArrow">
              <a:avLst>
                <a:gd name="adj1" fmla="val 50000"/>
                <a:gd name="adj2" fmla="val 1750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36720" y="2713320"/>
              <a:ext cx="32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ick for more 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3D1-6F29-4EB6-8BC2-65EE179C8F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19:45Z</dcterms:created>
  <dc:creator>kleinja</dc:creator>
  <dc:description/>
  <dc:language>en-US</dc:language>
  <cp:lastModifiedBy>Brian Kelly</cp:lastModifiedBy>
  <dcterms:modified xsi:type="dcterms:W3CDTF">2008-02-01T21:41:23Z</dcterms:modified>
  <cp:revision>16</cp:revision>
  <dc:subject/>
  <dc:title>Hazard Identification</dc:title>
</cp:coreProperties>
</file>