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4D8-CFF5-4CA9-B90A-EC69D09F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F00-88B5-4695-8421-2C8ADE58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B31-B6E7-4600-8BB2-3E55A332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3C7-471F-415D-B995-393C2F3F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64F2-21C7-474B-A7F8-108A10F8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D630-7D4C-4847-B118-B1131C55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BDAD-B4E5-44F6-B5F2-8DCBE579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0D7B-ABAF-4395-B85D-B98F2E2D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9EDB-2FF6-44DD-B3E8-401BC8DC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F8B6-45F3-49BB-B8F7-DAC8A68C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0F35-2AE4-4B15-81BA-9391FB96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1ED-4910-4483-8FFC-45B92890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07C4-DC99-48F2-B774-A7EF98AE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AC55-C7B8-4624-944C-76EEC2C7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ECB3-ABEB-4616-BA66-6733CC8B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30CA-A472-47EA-BF8C-049BF1B4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D82B-32D1-44C3-B088-D72305FD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AFA-583E-4F65-8E55-3CC67E1B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4F45-91C9-4785-9128-5330FD63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720-DC7E-485C-AB1F-A36BAC4C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C2CF-2C91-4D49-AD54-DD04C073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3DA-9ABB-4E85-933B-374A0968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1B4-0E05-4476-93EB-709A4E7A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83F-8071-451F-A786-15B01532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35DD-320B-4D36-A678-1A84B6B870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0B56-26AC-41FB-BAAB-F8B694DCBF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8120" y="1905120"/>
            <a:ext cx="3340080" cy="3089160"/>
          </a:xfrm>
          <a:prstGeom prst="flowChartOr">
            <a:avLst/>
          </a:prstGeom>
          <a:solidFill>
            <a:srgbClr val="99ccff">
              <a:alpha val="50000"/>
            </a:srgbClr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297180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IDENTIF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26668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5fc0e"/>
                </a:solidFill>
                <a:latin typeface="Comic Sans MS"/>
              </a:rPr>
              <a:t>PHYSICAL HAZ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3581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0fd77"/>
                </a:solidFill>
                <a:latin typeface="Comic Sans MS"/>
              </a:rPr>
              <a:t>ELECTRICAL HAZ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3581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0fd77"/>
                </a:solidFill>
                <a:latin typeface="Comic Sans MS"/>
              </a:rPr>
              <a:t>EQUIPMENT HAZ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228600"/>
            <a:ext cx="2361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A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PROCESS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666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0fd77"/>
                </a:solidFill>
                <a:latin typeface="Comic Sans MS"/>
              </a:rPr>
              <a:t>PROCESSHAZ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579132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VALUATE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R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289548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RISK-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6" idx="3"/>
            <a:endCxn id="82" idx="0"/>
          </p:cNvCxnSpPr>
          <p:nvPr/>
        </p:nvCxnSpPr>
        <p:spPr>
          <a:xfrm>
            <a:off x="5867280" y="919440"/>
            <a:ext cx="2095920" cy="2052720"/>
          </a:xfrm>
          <a:prstGeom prst="curvedConnector2">
            <a:avLst/>
          </a:prstGeom>
          <a:ln w="63360">
            <a:solidFill>
              <a:srgbClr val="e5fc0e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2" idx="2"/>
            <a:endCxn id="88" idx="3"/>
          </p:cNvCxnSpPr>
          <p:nvPr/>
        </p:nvCxnSpPr>
        <p:spPr>
          <a:xfrm rot="5400000">
            <a:off x="5806800" y="4048200"/>
            <a:ext cx="2216520" cy="2095920"/>
          </a:xfrm>
          <a:prstGeom prst="curvedConnector2">
            <a:avLst/>
          </a:prstGeom>
          <a:ln w="63360">
            <a:solidFill>
              <a:srgbClr val="e5fc0e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0"/>
            <a:endCxn id="86" idx="1"/>
          </p:cNvCxnSpPr>
          <p:nvPr/>
        </p:nvCxnSpPr>
        <p:spPr>
          <a:xfrm flipH="1" flipV="1" rot="5400000">
            <a:off x="1526400" y="916560"/>
            <a:ext cx="1976400" cy="1981800"/>
          </a:xfrm>
          <a:prstGeom prst="curvedConnector2">
            <a:avLst/>
          </a:prstGeom>
          <a:ln w="63360">
            <a:solidFill>
              <a:srgbClr val="e5fc0e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8" idx="1"/>
            <a:endCxn id="89" idx="2"/>
          </p:cNvCxnSpPr>
          <p:nvPr/>
        </p:nvCxnSpPr>
        <p:spPr>
          <a:xfrm rot="10800000">
            <a:off x="1523520" y="4467240"/>
            <a:ext cx="2210400" cy="1736640"/>
          </a:xfrm>
          <a:prstGeom prst="curvedConnector2">
            <a:avLst/>
          </a:prstGeom>
          <a:ln w="63360">
            <a:solidFill>
              <a:srgbClr val="e5fc0e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3048120" y="1905120"/>
            <a:ext cx="3352680" cy="3124080"/>
          </a:xfrm>
          <a:prstGeom prst="ellipse">
            <a:avLst/>
          </a:prstGeom>
          <a:solidFill>
            <a:srgbClr val="0099cc">
              <a:alpha val="50000"/>
            </a:srgbClr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2286000"/>
            <a:ext cx="2514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Y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COMPAN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LOG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500"/>
                            </p:stCondLst>
                            <p:childTnLst>
                              <p:par>
                                <p:cTn id="5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2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4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2:23:19Z</dcterms:created>
  <dc:creator>jbasilone</dc:creator>
  <dc:description/>
  <dc:language>en-US</dc:language>
  <cp:lastModifiedBy>cfrankly</cp:lastModifiedBy>
  <dcterms:modified xsi:type="dcterms:W3CDTF">2009-12-03T21:43:02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20709634</vt:r8>
  </property>
  <property fmtid="{D5CDD505-2E9C-101B-9397-08002B2CF9AE}" pid="3" name="_AuthorEmail">
    <vt:lpwstr>JBasilone@northallegheny.org</vt:lpwstr>
  </property>
  <property fmtid="{D5CDD505-2E9C-101B-9397-08002B2CF9AE}" pid="4" name="_AuthorEmailDisplayName">
    <vt:lpwstr>Basilone, James</vt:lpwstr>
  </property>
  <property fmtid="{D5CDD505-2E9C-101B-9397-08002B2CF9AE}" pid="5" name="_EmailSubject">
    <vt:lpwstr>Power Point Background</vt:lpwstr>
  </property>
  <property fmtid="{D5CDD505-2E9C-101B-9397-08002B2CF9AE}" pid="6" name="_ReviewingToolsShownOnce">
    <vt:lpwstr/>
  </property>
</Properties>
</file>