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wmf" ContentType="image/x-wmf"/>
  <Override PartName="/ppt/media/image19.wmf" ContentType="image/x-wmf"/>
  <Override PartName="/ppt/media/image14.jpeg" ContentType="image/jpeg"/>
  <Override PartName="/ppt/media/image1.wmf" ContentType="image/x-wmf"/>
  <Override PartName="/ppt/media/image18.wmf" ContentType="image/x-wmf"/>
  <Override PartName="/ppt/media/image17.wmf" ContentType="image/x-wmf"/>
  <Override PartName="/ppt/media/image16.jpeg" ContentType="image/jpeg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7.jpeg" ContentType="image/jpeg"/>
  <Override PartName="/ppt/media/image12.jpeg" ContentType="image/jpe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D55D-9104-468D-935A-F481ACEBB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571B-ABD7-411B-A85B-4D920DEFE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E1B1-E530-47AF-B1F3-D9CA5456D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6E11-B495-43DC-8E38-E26DE8AD0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744B-EDD2-4F84-9B4A-0C6CD02E8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F384-15C1-46C3-B6E0-B4E2A8C26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E037-E7EC-4500-A4FB-9CBDC5E8F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2DCF-0CEC-4B6C-BC6D-F6C8E9E86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014C-F48A-4FF5-AF02-19E09DC5C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9D53-5C06-4361-A2EA-D4ABA23EB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DE7E-70A5-4F83-A516-E8BB6670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402F-28CC-4AD1-BB65-A41DD497C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1CF14E2-4E09-4058-B75B-14C8F72F61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story.news.yahoo.com/news?g=events/wl/012004algeriaplant&amp;a=&amp;tmpl=sl&amp;ns=&amp;l=0&amp;e=9&amp;a=0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5400" spc="-1" strike="noStrike">
                <a:solidFill>
                  <a:srgbClr val="ff0033"/>
                </a:solidFill>
                <a:latin typeface="Arial"/>
              </a:rPr>
              <a:t>NOTEWORTHY</a:t>
            </a:r>
            <a:br>
              <a:rPr sz="5400"/>
            </a:br>
            <a:r>
              <a:rPr b="1" lang="en-US" sz="5400" spc="-1" strike="noStrike">
                <a:solidFill>
                  <a:srgbClr val="ff0033"/>
                </a:solidFill>
                <a:latin typeface="Arial"/>
              </a:rPr>
              <a:t> INCIDENTS</a:t>
            </a:r>
            <a:br>
              <a:rPr sz="5400"/>
            </a:br>
            <a:br>
              <a:rPr sz="5400"/>
            </a:b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IN THE PROCESS INDUST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90720" y="3973680"/>
            <a:ext cx="3450960" cy="24015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933800" y="4025880"/>
            <a:ext cx="334656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04920" y="45720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f0033"/>
                </a:solidFill>
                <a:latin typeface="Arial"/>
              </a:rPr>
              <a:t>23/03/05 BP Refinery Explosion </a:t>
            </a:r>
            <a:br>
              <a:rPr sz="3600"/>
            </a:br>
            <a:r>
              <a:rPr b="1" lang="en-US" sz="3600" spc="-1" strike="noStrike">
                <a:solidFill>
                  <a:srgbClr val="ff0033"/>
                </a:solidFill>
                <a:latin typeface="Arial"/>
              </a:rPr>
              <a:t>Texas City, T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2057400"/>
            <a:ext cx="4038480" cy="43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6520" indent="-236520"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osion and fire in Isomerization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 was starting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15 fat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0 inju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despread de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aintenance trailers destro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rcRect l="0" t="0" r="17461" b="0"/>
          <a:stretch/>
        </p:blipFill>
        <p:spPr>
          <a:xfrm>
            <a:off x="4267080" y="2209680"/>
            <a:ext cx="457200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" y="2438280"/>
            <a:ext cx="3581280" cy="30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6520" indent="-236520"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chanical work near rea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trogen purged from 24” top man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fatal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3808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33"/>
                </a:solidFill>
                <a:latin typeface="Arial"/>
              </a:rPr>
              <a:t>05/11/05  Valero Refinery Asphyxiation  Delaware City, 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Valero Refinery Asphyxiation Incident"/>
          <p:cNvPicPr/>
          <p:nvPr/>
        </p:nvPicPr>
        <p:blipFill>
          <a:blip r:embed="rId1"/>
          <a:srcRect l="24026" t="0" r="5351" b="0"/>
          <a:stretch/>
        </p:blipFill>
        <p:spPr>
          <a:xfrm>
            <a:off x="4191120" y="1905120"/>
            <a:ext cx="4476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80880" y="3808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33"/>
                </a:solidFill>
                <a:latin typeface="Arial"/>
              </a:rPr>
              <a:t>13/11/05  Jilin Petrochemical Co. (CNPC) Jilin, Ch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2590920"/>
            <a:ext cx="3581280" cy="26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6520" indent="-236520"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osion and toxic rel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killed, 70 inju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000 evacu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ver contamin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rcRect l="6002" t="0" r="9999" b="0"/>
          <a:stretch/>
        </p:blipFill>
        <p:spPr>
          <a:xfrm>
            <a:off x="4419720" y="2286000"/>
            <a:ext cx="426708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Bethune Point Wastewater Plant Explosion"/>
          <p:cNvPicPr/>
          <p:nvPr/>
        </p:nvPicPr>
        <p:blipFill>
          <a:blip r:embed="rId1"/>
          <a:srcRect l="0" t="0" r="22642" b="0"/>
          <a:stretch/>
        </p:blipFill>
        <p:spPr>
          <a:xfrm>
            <a:off x="3962520" y="1938240"/>
            <a:ext cx="4724280" cy="43102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80880" y="2819520"/>
            <a:ext cx="4038840" cy="30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6520" indent="-236520"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anol tank explo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t work on ta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2 fat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serious inju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00 gal rel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3520" y="45720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33"/>
                </a:solidFill>
                <a:latin typeface="Arial"/>
              </a:rPr>
              <a:t>11/01/06 Bethune Point Wastewater Plant, Daytona Beach, F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27421" t="0" r="0" b="0"/>
          <a:stretch/>
        </p:blipFill>
        <p:spPr>
          <a:xfrm>
            <a:off x="5181480" y="2514600"/>
            <a:ext cx="3429000" cy="31892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33520" y="380880"/>
            <a:ext cx="830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33"/>
                </a:solidFill>
                <a:latin typeface="Arial"/>
              </a:rPr>
              <a:t>25/03/06 Tianyuan Chemical Pl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33"/>
                </a:solidFill>
                <a:latin typeface="Arial"/>
              </a:rPr>
              <a:t>Chongqing, Ch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33520" y="3962520"/>
            <a:ext cx="3809880" cy="25714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838080" y="1828800"/>
            <a:ext cx="4038840" cy="22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6520" indent="-236520"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rnace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lorine rel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inor inju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00 evacu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800" spc="-1" strike="noStrike">
                <a:solidFill>
                  <a:srgbClr val="ff0033"/>
                </a:solidFill>
                <a:latin typeface="Arial"/>
              </a:rPr>
              <a:t>Common Leak Sourc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57200" y="1066680"/>
          <a:ext cx="8229600" cy="559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66680"/>
                    <a:ext cx="8229600" cy="559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 rot="16200000">
            <a:off x="96120" y="3173400"/>
            <a:ext cx="16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% of T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800" spc="-1" strike="noStrike">
                <a:solidFill>
                  <a:srgbClr val="ff0033"/>
                </a:solidFill>
                <a:latin typeface="Arial"/>
              </a:rPr>
              <a:t>Type of Equipme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990720" y="990720"/>
          <a:ext cx="7154640" cy="5621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990720"/>
                    <a:ext cx="7154640" cy="562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800" spc="-1" strike="noStrike">
                <a:solidFill>
                  <a:srgbClr val="ff0033"/>
                </a:solidFill>
                <a:latin typeface="Arial"/>
              </a:rPr>
              <a:t>Systemic Caus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685800" y="1143000"/>
          <a:ext cx="7778880" cy="543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143000"/>
                    <a:ext cx="7778880" cy="54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800" spc="-1" strike="noStrike">
                <a:solidFill>
                  <a:srgbClr val="ff0033"/>
                </a:solidFill>
                <a:latin typeface="Arial"/>
              </a:rPr>
              <a:t>Accident Hot Spo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3000"/>
          </a:bodyPr>
          <a:p>
            <a:pPr marL="250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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ctive chemic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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rge inventories (tank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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mall compan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8341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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gineering defici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340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s and standards not properly applie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adequate safety review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34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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nging condi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167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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tended plant life, aging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3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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siness profit drive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800" spc="-1" strike="noStrike">
                <a:solidFill>
                  <a:srgbClr val="ff0033"/>
                </a:solidFill>
                <a:latin typeface="Arial"/>
              </a:rPr>
              <a:t>Accident Control Poin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lnSpc>
                <a:spcPct val="105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ure design is suited to service cond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5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ain equipment in good working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5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y within established operating envel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5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ure people are well trained and capable of acting in an emerg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5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 Process Safety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5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accidents elsewhere and apply the learn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419040"/>
            <a:ext cx="776952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33"/>
                </a:solidFill>
                <a:latin typeface="Arial"/>
              </a:rPr>
              <a:t>02/01/99 Ford Motor Company Boiler Explosion, Dearborn, M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943520" y="1828800"/>
            <a:ext cx="3870360" cy="4551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57200" y="2133720"/>
            <a:ext cx="45720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87200" indent="-187200">
              <a:lnSpc>
                <a:spcPct val="89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Large industrial bo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89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tiered explo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89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ted by dust explo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89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6 fat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89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38 inju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89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Damage $650 mill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89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Power plant destroy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33"/>
                </a:solidFill>
                <a:latin typeface="Arial"/>
              </a:rPr>
              <a:t>09/12/00 Utility Boiler Explosion</a:t>
            </a:r>
            <a:br>
              <a:rPr sz="3600"/>
            </a:br>
            <a:r>
              <a:rPr b="1" lang="en-US" sz="3600" spc="-1" strike="noStrike">
                <a:solidFill>
                  <a:srgbClr val="ff0033"/>
                </a:solidFill>
                <a:latin typeface="Arial"/>
              </a:rPr>
              <a:t>ExxonMobil, Singapor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2362320"/>
            <a:ext cx="3505320" cy="33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87200" indent="-187200">
              <a:lnSpc>
                <a:spcPct val="89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ebox explo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89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fatalities, 1 inju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89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up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89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fety features were by-pa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89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adequate M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89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495680" y="2362320"/>
            <a:ext cx="4229280" cy="39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7240" y="419040"/>
            <a:ext cx="776952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33"/>
                </a:solidFill>
                <a:latin typeface="Arial"/>
              </a:rPr>
              <a:t>21/09/01 Atofina Nitrate Explosion, Toulouse, Franc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2133720"/>
            <a:ext cx="3886200" cy="33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87200" indent="-187200">
              <a:lnSpc>
                <a:spcPct val="89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Ammonium nitrate stor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89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Explosion and f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89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Facility destro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89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31 fat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89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2440 inju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89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Damage $800 m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495680" y="1731960"/>
            <a:ext cx="421344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33"/>
                </a:solidFill>
                <a:latin typeface="Arial"/>
              </a:rPr>
              <a:t>16/04/01 Conoco Refinery Explosion, Grimsby, UK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2133720"/>
            <a:ext cx="3886200" cy="28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87200" indent="-187200">
              <a:lnSpc>
                <a:spcPct val="89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por cloud explo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89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pe failure in fractionator OH l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89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Facility destro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89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2 inju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89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Damage $400 m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16978" r="71172" b="0"/>
          <a:stretch/>
        </p:blipFill>
        <p:spPr>
          <a:xfrm>
            <a:off x="4495680" y="1523880"/>
            <a:ext cx="42228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33"/>
                </a:solidFill>
                <a:latin typeface="Arial"/>
              </a:rPr>
              <a:t>31/01/02 Kuwait Pipeline Explosion, Raudhatain Oilfield, Kuwa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1981080"/>
            <a:ext cx="3657600" cy="27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87200" indent="-187200">
              <a:lnSpc>
                <a:spcPct val="89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Major gas leak from oilfield pipe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89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Vapor cloud explosion and f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89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4 fat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89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19 inju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0" t="0" r="10814" b="0"/>
          <a:stretch/>
        </p:blipFill>
        <p:spPr>
          <a:xfrm>
            <a:off x="4114800" y="1676520"/>
            <a:ext cx="45417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33"/>
                </a:solidFill>
                <a:latin typeface="Arial"/>
              </a:rPr>
              <a:t>20/01/04 NAFTEC Refinery, </a:t>
            </a:r>
            <a:br>
              <a:rPr sz="3600"/>
            </a:br>
            <a:r>
              <a:rPr b="1" lang="en-US" sz="3600" spc="-1" strike="noStrike">
                <a:solidFill>
                  <a:srgbClr val="ff0033"/>
                </a:solidFill>
                <a:latin typeface="Arial"/>
              </a:rPr>
              <a:t>Skikda, Algeri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1752480"/>
            <a:ext cx="3886200" cy="52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87200" indent="-187200">
              <a:lnSpc>
                <a:spcPct val="89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osion of steam boiler adjacent to LNG contai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89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release of LNG and subsequent explo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89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 fatalities, 74 inju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89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ility destroyed, $800 m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89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89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r1892439195" descr=" Click For Small phot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76920" y="1523880"/>
            <a:ext cx="393516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f0033"/>
                </a:solidFill>
                <a:latin typeface="Arial"/>
              </a:rPr>
              <a:t>23/04/04  Formosa Plastics Explosion  Illiopolis, 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ease of vinyl chloride vap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uge system fai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gnition and explo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fata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serious inju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ty evac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Formosa Plastics Vinyl Chloride Explosion"/>
          <p:cNvPicPr/>
          <p:nvPr/>
        </p:nvPicPr>
        <p:blipFill>
          <a:blip r:embed="rId1"/>
          <a:srcRect l="15354" t="0" r="13110" b="0"/>
          <a:stretch/>
        </p:blipFill>
        <p:spPr>
          <a:xfrm>
            <a:off x="4876920" y="2057400"/>
            <a:ext cx="396216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04920" y="45720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f0033"/>
                </a:solidFill>
                <a:latin typeface="Arial"/>
              </a:rPr>
              <a:t>30/07/04 Gas Pipeline Explosion </a:t>
            </a:r>
            <a:br>
              <a:rPr sz="3600"/>
            </a:br>
            <a:r>
              <a:rPr b="1" lang="en-US" sz="3600" spc="-1" strike="noStrike">
                <a:solidFill>
                  <a:srgbClr val="ff0033"/>
                </a:solidFill>
                <a:latin typeface="Arial"/>
              </a:rPr>
              <a:t>Ath, Belgi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2057400"/>
            <a:ext cx="4038480" cy="43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6520" indent="-236520"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ilure of gas pipeline (caused by construction) with subsequ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osion and fi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21 fat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0 inju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despread de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18640" t="0" r="10171" b="0"/>
          <a:stretch/>
        </p:blipFill>
        <p:spPr>
          <a:xfrm>
            <a:off x="4419720" y="1981080"/>
            <a:ext cx="4495680" cy="42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0T18:02:59Z</dcterms:created>
  <dc:creator>Brian Kelly</dc:creator>
  <dc:description/>
  <dc:language>en-US</dc:language>
  <cp:lastModifiedBy>dal</cp:lastModifiedBy>
  <cp:lastPrinted>2002-07-30T02:23:53Z</cp:lastPrinted>
  <dcterms:modified xsi:type="dcterms:W3CDTF">2009-02-20T20:11:14Z</dcterms:modified>
  <cp:revision>57</cp:revision>
  <dc:subject/>
  <dc:title>NOTEWORTHY  INCIDENTS  IN THE PROCESS INDUSTRIES</dc:title>
</cp:coreProperties>
</file>